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E78DE-B255-4F6D-8FF3-6EB9E2AC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E1E3-D548-4C8E-9C18-0C02F29D6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3BE0D-3CD7-497A-8A6A-4C209F013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6ACCC-AFBA-4888-AD7D-AAD28BAA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48316-EF30-40A5-BB58-8A3498163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ED321-27ED-441F-90A9-6DF4BA9C3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45242-EE26-46C2-BD09-5D0676244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CB7F9-616D-4CC9-A238-D352FE9B4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AE49-66D5-497D-95FE-08FF6F113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1D76-3BA6-4A0C-BF0C-16D38F53C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8249-FD15-44CD-9745-FFCAAF7AD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D2DE2-0AF6-40E0-A06D-225C2A3CF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9FB8F-9BAA-43C2-88D8-0826EAAA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FE56C-9108-4C8A-A199-CC0C3B685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C6A84-5C1C-489C-9819-D13940ADD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8DFF9-1AC7-4745-8839-E1B6BB625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3A26D-B8D4-4F48-BB8C-E2B7779B1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6B8E-F100-421A-8109-3EA344410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F7D5E-55F1-4162-A9EE-42AB07A16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4A675-F244-49E5-9F08-C34F5F28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4C83-F109-4CC6-B031-1B3E51EB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4752-6D4C-499A-A121-1EC472900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437F-D0A7-4AE2-B329-0A921427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A836-D403-4F59-803E-02E946EDC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C823-125D-4573-95EA-C61E3661D3F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8F67-488C-476A-9E33-D3C888EDA09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Picture 4" descr="gat"/>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35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7" name=""/>
          <p:cNvSpPr txBox="1"/>
          <p:nvPr/>
        </p:nvSpPr>
        <p:spPr>
          <a:xfrm>
            <a:off x="457200" y="1773360"/>
            <a:ext cx="8229600" cy="4751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scen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goes for a job interview but fails the urine tes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with Jerome’s borrowed genes, goes for another interview and gets the job.</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ny other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9" name=""/>
          <p:cNvSpPr txBox="1"/>
          <p:nvPr/>
        </p:nvSpPr>
        <p:spPr>
          <a:xfrm>
            <a:off x="457200" y="1988640"/>
            <a:ext cx="8229600" cy="4535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ful quotes:</a:t>
            </a:r>
            <a:endParaRPr b="0" lang="en-US" sz="32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I belonged to a new underclass, no longer determined by social status or the colour of your skin. No, we now have discrimination down to a science.’</a:t>
            </a:r>
            <a:endParaRPr b="0" lang="en-US" sz="28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Nobody takes the law seriously.’</a:t>
            </a:r>
            <a:endParaRPr b="0" lang="en-US" sz="28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y used to say that a child conceived in love has a greater chance of happiness. They don’t say that anymore.’</a:t>
            </a:r>
            <a:endParaRPr b="0" lang="en-US" sz="28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What are the dangers of genetic and scientific experimentation?</a:t>
            </a:r>
            <a:endParaRPr b="0" lang="en-US" sz="4400" spc="-1" strike="noStrike">
              <a:solidFill>
                <a:srgbClr val="b2b2b2"/>
              </a:solidFill>
              <a:latin typeface="Arial"/>
            </a:endParaRPr>
          </a:p>
        </p:txBody>
      </p:sp>
      <p:sp>
        <p:nvSpPr>
          <p:cNvPr id="121" name="PlaceHolder 2"/>
          <p:cNvSpPr>
            <a:spLocks noGrp="1"/>
          </p:cNvSpPr>
          <p:nvPr>
            <p:ph/>
          </p:nvPr>
        </p:nvSpPr>
        <p:spPr>
          <a:xfrm>
            <a:off x="457200" y="1773360"/>
            <a:ext cx="8229600" cy="43574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How can science be controlled?</a:t>
            </a:r>
            <a:endParaRPr b="0" lang="en-US" sz="4400" spc="-1" strike="noStrike">
              <a:solidFill>
                <a:srgbClr val="b2b2b2"/>
              </a:solidFill>
              <a:latin typeface="Arial"/>
            </a:endParaRPr>
          </a:p>
        </p:txBody>
      </p:sp>
      <p:sp>
        <p:nvSpPr>
          <p:cNvPr id="123" name=""/>
          <p:cNvSpPr txBox="1"/>
          <p:nvPr/>
        </p:nvSpPr>
        <p:spPr>
          <a:xfrm>
            <a:off x="457200" y="1599840"/>
            <a:ext cx="8229600" cy="485316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ystemic discriminati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new form of discrimination has arisen, called GENOISM: discrimination according to one’s genetic co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are three examples of genoism in </a:t>
            </a:r>
            <a:r>
              <a:rPr b="0" lang="en-NZ" sz="3200" spc="-1" strike="noStrike">
                <a:solidFill>
                  <a:srgbClr val="ffffff"/>
                </a:solidFill>
                <a:latin typeface="Arial"/>
              </a:rPr>
              <a:t>Gattaca?</a:t>
            </a: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The World of </a:t>
            </a:r>
            <a:r>
              <a:rPr b="0" i="1" lang="en-NZ" sz="4000" spc="-1" strike="noStrike">
                <a:solidFill>
                  <a:srgbClr val="b2b2b2"/>
                </a:solidFill>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is </a:t>
            </a:r>
            <a:r>
              <a:rPr b="0" i="1" lang="en-NZ" sz="3200" spc="-1" strike="noStrike">
                <a:solidFill>
                  <a:srgbClr val="ffffff"/>
                </a:solidFill>
                <a:latin typeface="Arial"/>
              </a:rPr>
              <a:t>Gattaca</a:t>
            </a:r>
            <a:r>
              <a:rPr b="0" lang="en-NZ" sz="3200" spc="-1" strike="noStrike">
                <a:solidFill>
                  <a:srgbClr val="ffffff"/>
                </a:solidFill>
                <a:latin typeface="Arial"/>
              </a:rPr>
              <a:t> a dystop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early everyone is accepting and passive of their place in socie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Visual metaphors which show discrimination</a:t>
            </a:r>
            <a:endParaRPr b="0" lang="en-US" sz="4000" spc="-1" strike="noStrike">
              <a:solidFill>
                <a:srgbClr val="b2b2b2"/>
              </a:solidFill>
              <a:latin typeface="Arial"/>
            </a:endParaRPr>
          </a:p>
        </p:txBody>
      </p:sp>
      <p:sp>
        <p:nvSpPr>
          <p:cNvPr id="133"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755640" y="25776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5" name="Text Box 5"/>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Destiny vs. free will</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dangers of genetic and scientific experimentation</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ystemic discrimination</a:t>
            </a:r>
            <a:endParaRPr b="0" lang="en-US" sz="40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lotted minute because she would feel guilty if she lived a minute longer than her profile proscribed. Uma had an excellent take on how to play her. Instead of being pitiful, she plays Irene as a woman who is very definite about her shortcomings, who is very firm in her belief in her fatalities." </a:t>
            </a:r>
            <a:br>
              <a:rPr sz="3600"/>
            </a:br>
            <a:br>
              <a:rPr sz="3600"/>
            </a:br>
            <a:endParaRPr b="0" lang="en-US" sz="36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24000" y="475920"/>
            <a:ext cx="8229600" cy="6597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t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rrow = i.e. as in to</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5"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Gattaca</a:t>
            </a:r>
            <a:r>
              <a:rPr b="0" lang="en-AU" sz="3200" spc="-1" strike="noStrike">
                <a:solidFill>
                  <a:srgbClr val="ffffff"/>
                </a:solidFill>
                <a:latin typeface="Arial"/>
              </a:rPr>
              <a:t> shows us that our destiny cannot be mapped out using our genetic code. Our free will and our determination are what ultimately determine the path our life will tak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Do you agree or disagree?</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haracters who embody this theme ar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ren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ton</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ny others?</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9"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scen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s ‘destiny’ is mapped out at the moment of his birth</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beats Anton in the chicken race (twic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tells Irene he is a borrowed ladder</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y others? </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11"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ful quot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There is no gene for the human spiri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This is how I did it, Anton. I never saved anything for the swim back.’</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No one exceeds their potential.’</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3" name=""/>
          <p:cNvSpPr txBox="1"/>
          <p:nvPr/>
        </p:nvSpPr>
        <p:spPr>
          <a:xfrm>
            <a:off x="457200" y="1844640"/>
            <a:ext cx="8229600" cy="4286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Gattaca</a:t>
            </a:r>
            <a:r>
              <a:rPr b="0" lang="en-NZ" sz="3200" spc="-1" strike="noStrike">
                <a:solidFill>
                  <a:srgbClr val="ffffff"/>
                </a:solidFill>
                <a:latin typeface="Arial"/>
              </a:rPr>
              <a:t> shows us a world in which the pace of scientific discovery has been left unchecked by moral and ethical deb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5" name=""/>
          <p:cNvSpPr txBox="1"/>
          <p:nvPr/>
        </p:nvSpPr>
        <p:spPr>
          <a:xfrm>
            <a:off x="457200" y="1844640"/>
            <a:ext cx="8229600" cy="4286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a:t>
            </a:r>
            <a:r>
              <a:rPr b="1" lang="en-AU" sz="3200" spc="-1" strike="noStrike">
                <a:solidFill>
                  <a:srgbClr val="ffffff"/>
                </a:solidFill>
                <a:latin typeface="Arial"/>
              </a:rPr>
              <a:t>motifs</a:t>
            </a:r>
            <a:r>
              <a:rPr b="0" lang="en-AU" sz="3200" spc="-1" strike="noStrike">
                <a:solidFill>
                  <a:srgbClr val="ffffff"/>
                </a:solidFill>
                <a:latin typeface="Arial"/>
              </a:rPr>
              <a:t> of the fingernails, urine tests, blood tests and hair samples symbolise a world obsessed with genetic purity.</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LaToya</cp:lastModifiedBy>
  <dcterms:modified xsi:type="dcterms:W3CDTF">2012-02-26T23:13:27Z</dcterms:modified>
  <cp:revision>20</cp:revision>
  <dc:subject/>
  <dc:title>Gattaca</dc:title>
</cp:coreProperties>
</file>